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172C5-442E-4A4D-B2DA-01DC4DFE7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01215-6290-46F7-AD03-76DFDFFC0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F6652-3011-4426-96C0-01E371B7C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5C8F5-1BD0-40BC-B442-D87A989A1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26AEC-2468-4657-8F63-0CFA01DA4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54CE2-8764-4F7C-A932-6BF4E11CF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0CBCC-2BD7-4084-BC36-664CCC39F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6EF0E-5726-499E-9D20-917CF8755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DF5DB-888F-4E10-A1BB-A15CB121C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9B6A1-E1AF-4F68-BF6C-3C58BE7AE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06712-B678-4598-A9FB-BBFD30E4A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4057D-90EF-4D18-9BB5-7A94E71F3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BE94E-B938-411C-8F0E-3BBA0B5E1C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1440"/>
            <a:ext cx="9140760" cy="685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edit" descr=""/>
          <p:cNvPicPr/>
          <p:nvPr/>
        </p:nvPicPr>
        <p:blipFill>
          <a:blip r:embed="rId1"/>
          <a:stretch/>
        </p:blipFill>
        <p:spPr>
          <a:xfrm>
            <a:off x="0" y="0"/>
            <a:ext cx="91407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1440"/>
            <a:ext cx="9140760" cy="685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1440"/>
            <a:ext cx="9140760" cy="685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1440"/>
            <a:ext cx="9140760" cy="685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1440"/>
            <a:ext cx="9140760" cy="685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1440"/>
            <a:ext cx="9140760" cy="685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1440"/>
            <a:ext cx="9140760" cy="685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19T05:50:04Z</dcterms:created>
  <dc:creator>Michal.Holliday</dc:creator>
  <dc:description/>
  <dc:language>en-US</dc:language>
  <cp:lastModifiedBy>Michal.Holliday</cp:lastModifiedBy>
  <dcterms:modified xsi:type="dcterms:W3CDTF">2001-04-19T06:02:00Z</dcterms:modified>
  <cp:revision>2</cp:revision>
  <dc:subject/>
  <dc:title>PowerPoint Presentation</dc:title>
</cp:coreProperties>
</file>